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5A124-D597-40DF-B637-0DD7E3E16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A309E-3664-44D2-A75D-BE26918A2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96056-D09C-4126-8390-443AE6805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4FED4-46C7-43BB-8D48-58AF27B79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CB7E0-1E67-4AAD-999A-BA979D0CD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F7F9E-8EC5-4CBF-AB5B-4CDEA393F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234F2-09AA-438D-8A54-131F4BD53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58AA8-1CD2-4F95-B32F-34F4C9D88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E5D12-313F-4533-890B-3D8B40D40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25179-9394-4FA6-B2C6-5AA84AA6E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D6A6A-444D-41C1-B089-D3C780C1E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5FE93-0D12-4D1F-9DE1-7285B72AF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DE68E-4CD9-41DD-8B8E-94B32EFB1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614C1-E1E4-401D-9C97-FFD025A58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8E1DA-0AB3-4ADA-BAF1-27ADB250F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4B605-3ECC-4865-A9D6-373A67C26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3E427-0BB9-4045-A8C8-6F6CB1A10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2DB95-ADD9-49C8-BCD0-BB1CC4FFB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11A56-691C-47F5-8AE3-0D8C5D924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5E1A3-EA14-45A5-9F15-8519FE74B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98D35-6311-4A79-A1D6-C831E9544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4129F-6B85-4F66-B272-86854E93E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271E1-0F6A-4A65-B59B-EDF4A303D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EDD50-91CE-4D6C-AB67-9E1B2111C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F3AE0-519B-47D6-ACCA-313C2ADC4BA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402B1-78D9-4F32-960A-26395E62FB9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sent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hunks (packets) of data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passed from node to node between source and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terminal to computer and computer to computer 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systems have large overheads to compensate for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rn systems are more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s can be caught in en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overhead for error control is stripped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ution of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ttle overhead fo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packet (called cell)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thing from 10Mbps to G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data rate using packet switching techn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d Services Digita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replace public telecom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de variety of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ly digital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or small cam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owned by same organization as attached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much hig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roadcas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w some switched systems and ATM are being intro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communications between entities in a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peak the same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-mail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te sen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 of a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an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 ma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sk of communication broken up into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example file transfer could use three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service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File Transfer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92480"/>
            <a:ext cx="800100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Three Layer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Communications Model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s data to be transmit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data into transmittable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s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received signal into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s incoming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the computer and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ing computer provides address of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voke level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ent on type of network used (LAN, packet switched etc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ata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being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different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e-mail, fil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evels of addressing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puter needs unique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application on a (multi-tasking) computer needs a unique address within the comp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ervice access point or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s an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528"/>
          <a:stretch/>
        </p:blipFill>
        <p:spPr>
          <a:xfrm>
            <a:off x="1676520" y="1752480"/>
            <a:ext cx="561024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 in Simplified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47840"/>
            <a:ext cx="807696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Data Units (PDU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ach layer, protocols are used to commun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rmation is added to user data at each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 may fragmen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gment has a transport header ad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a transport protocol data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s network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 for destination 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ies reque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a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22372"/>
          <a:stretch/>
        </p:blipFill>
        <p:spPr>
          <a:xfrm>
            <a:off x="685800" y="2117880"/>
            <a:ext cx="784872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US Defense Advanced Research Project Agency (DARPA) for its packet switched network (ARPAN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global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official model but a working o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o host or transpor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Communications Model -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060"/>
          <a:stretch/>
        </p:blipFill>
        <p:spPr>
          <a:xfrm>
            <a:off x="457200" y="1676520"/>
            <a:ext cx="8153280" cy="47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interface between data transmission device (e.g. computer) and transmission medium o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of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end system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 pro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voking services like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Layer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 may be attached to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functions across multipl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ed in end system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 (TC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eliver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ing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ttp, SM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914400" y="1676520"/>
            <a:ext cx="7315200" cy="50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Systems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International Organization for Standardization (IS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theoretical system delivered too lat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is the de facto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v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16127"/>
          <a:stretch/>
        </p:blipFill>
        <p:spPr>
          <a:xfrm>
            <a:off x="838080" y="1676520"/>
            <a:ext cx="7772400" cy="51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d to allow for interoperability between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a large market for equipment and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products from different vendors to commun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eze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ultiple standards for the same t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Communications T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System Uti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r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ing and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format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 Organiz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Socie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(formally CCIT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rther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, W. Data and Computer Communications (6th edition), Prentice Hall 1999 chapter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 for Stallings boo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ww.shore.net/~ws/DCC6e.htm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for IETF, IEEE, ITU-T, 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Requests for Comment (RF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net News grou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dcom.*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protocols.tcp-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Data Communications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9050"/>
          <a:stretch/>
        </p:blipFill>
        <p:spPr>
          <a:xfrm>
            <a:off x="457200" y="2295360"/>
            <a:ext cx="8153280" cy="28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communication not usually prac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re too far a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set of devices would need impractical number of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Network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914400" y="1668600"/>
            <a:ext cx="6705720" cy="51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de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geographical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ing public rights of w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in part on common carrier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 Transfer Mode (AT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s path established for the duration of the convers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0:42Z</dcterms:modified>
  <cp:revision>15</cp:revision>
  <dc:subject/>
  <dc:title>William Stallings Data and Computer Communications</dc:title>
</cp:coreProperties>
</file>